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4DE53-866E-4B03-99CB-3CF0E03FB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4FDA7-209C-45AA-B1DC-A7709A98E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DC96B-5A4D-4033-81C1-9F3824B00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A2805-C605-4A90-8DD3-13F5E13B5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D806E-C827-4ED2-985F-75CAD3FC1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D1773-097E-4478-9AED-256CB881F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8D9AE-CDE3-45B6-9934-5D68DDBC6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3F8EE-A26A-4A8C-8242-E8B464F8F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D40BC-60AE-4507-8C36-57BF457E0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45514-D322-44E6-8713-389BC7F3F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CE659-CD2C-4FFE-837C-2958A66C3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BEED7-915E-456F-A277-980D1D8A1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CFA08-7265-4A0F-AD64-ACF1DB45CB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984680" y="374760"/>
            <a:ext cx="285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oom’s Taxonom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62120" y="1295280"/>
            <a:ext cx="5638680" cy="6934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762120" y="6019920"/>
            <a:ext cx="5638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4800600"/>
            <a:ext cx="5638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62120" y="3581280"/>
            <a:ext cx="5638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2362320"/>
            <a:ext cx="5638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120" y="7162920"/>
            <a:ext cx="5638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514600" y="1295280"/>
            <a:ext cx="0" cy="6934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1295280"/>
            <a:ext cx="0" cy="6934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143360" y="914400"/>
            <a:ext cx="610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748960" y="914400"/>
            <a:ext cx="100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efin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85920" y="91440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Ver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022640" y="1447920"/>
            <a:ext cx="21589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List  tell  say  na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epeat  memorize  lab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ecognize read reco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050720" y="2438280"/>
            <a:ext cx="221220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xplain  describe  def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paraphrase  summariz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how report tell inf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iscuss express loc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062600" y="3657600"/>
            <a:ext cx="217116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Classify  constru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olve  diagram  or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ransfer  use dramatiz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raw model operat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ransfer illustr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11760" y="4952880"/>
            <a:ext cx="26146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Compare  contrast dia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istinguish analyze exam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question  take away comb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ake apart  experi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871080" y="7238880"/>
            <a:ext cx="26863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Create invent predic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esign imagine plan compo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rrange assume trans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hypothesize deriv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41640" y="6095880"/>
            <a:ext cx="25704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efend  refute  jud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valuate  critique sele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praise determine validat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ssess decide justify r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816840" y="1636560"/>
            <a:ext cx="292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member              Ro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48440" y="2855880"/>
            <a:ext cx="317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dertstand         Underst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833400" y="3962520"/>
            <a:ext cx="294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y                   Use in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W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53840" y="5105520"/>
            <a:ext cx="3769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alyze               Break D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o Parts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834480" y="7391520"/>
            <a:ext cx="320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            Put Parts i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ew Who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34120" y="6324480"/>
            <a:ext cx="297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e               Make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d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ut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" dur="80"/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80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" dur="80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80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" dur="80"/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" dur="80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" dur="80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" dur="80"/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" dur="80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" dur="80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0T12:57:43Z</dcterms:created>
  <dc:creator>Lisa Carter Waring</dc:creator>
  <dc:description/>
  <dc:language>en-US</dc:language>
  <cp:lastModifiedBy>Lisa Carter Waring</cp:lastModifiedBy>
  <dcterms:modified xsi:type="dcterms:W3CDTF">2009-06-10T12:59:17Z</dcterms:modified>
  <cp:revision>1</cp:revision>
  <dc:subject/>
  <dc:title>Slide 1</dc:title>
</cp:coreProperties>
</file>